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634-9EA5-4074-8E37-4DA3D796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F16-0E2E-4149-B456-E3A6A860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2F2-E0CF-4205-9F4F-56640253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AAB-F975-48B5-AB1F-258CD1AC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8C5-7E12-4A84-B4D1-39AE09BE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1FA-51BD-4B9C-B081-82754D73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060-EF13-4F7F-8D14-AF4F40B9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287-924F-413E-B596-ED5F66AE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208-DAE4-41B8-9131-E4ECBD61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65E-C3D4-4BFC-9A69-689EA26B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02C-26E1-44BA-B67F-A61741C1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792-C99C-4EA9-811A-0562EEC7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E6FC-8ECA-4840-841D-9461F04BC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eb.mit.edu/invent/iow/crayon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35200" y="4913280"/>
            <a:ext cx="13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ecca 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22,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304920"/>
            <a:ext cx="58676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00ffff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Arial Black"/>
              </a:rPr>
              <a:t>Crayola Crayons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00ffff"/>
                  </a:gs>
                  <a:gs pos="100000">
                    <a:srgbClr val="ff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Binney &amp; Smith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Binney &amp; Smith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, 2/28/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ray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75"/>
            </a:gs>
            <a:gs pos="50000">
              <a:srgbClr val="ff00ff"/>
            </a:gs>
            <a:gs pos="100000">
              <a:srgbClr val="75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nvention: Crayola Cray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ince 1903, Crayola crayons have extended on success in the number of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n 1902, wax crayons were big, dull-colored and clum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rayola” means oil ch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n 1903 the first yellow and green box of eight C.C appreh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Kids still love to color with crayons and they probably always w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Inventors: Edward Binney and Harold Sm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heir company was in New York City in the late 18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t first, they specialized in industrial col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hey are still the master of the market it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hey founded in Binney and Smith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hey won a gold medal in St. Lou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7:49Z</dcterms:created>
  <dc:creator>install</dc:creator>
  <dc:description/>
  <dc:language>en-US</dc:language>
  <cp:lastModifiedBy>install</cp:lastModifiedBy>
  <dcterms:modified xsi:type="dcterms:W3CDTF">2011-03-11T18:31:23Z</dcterms:modified>
  <cp:revision>11</cp:revision>
  <dc:subject/>
  <dc:title>Slide 1</dc:title>
</cp:coreProperties>
</file>